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gif" ContentType="image/gi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2FBA-B725-41E1-A6EB-7ADBC892BE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1E89-C603-464F-A952-76E9F183D2F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6662-50EE-4CF3-AD99-037B21CBC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31B0-3AF3-490A-9C5D-4A8791A1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AD41-8535-49BE-8DC4-25DB5B05B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3DEC-3398-4014-BA85-60AFDF604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DB74-CCC1-4241-866B-558F2858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8CB1-C408-40C3-8551-53D31D17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573E-5B92-4414-940A-7AF7E7D7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DBC9-4BDC-4F5F-A328-72D9B284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0EA5-024A-4D8C-BD51-0CF887E6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DC57-CD32-4023-8215-B17B9CDE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9BB3-41A6-4B1E-9843-15D4858B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59EF-AEDB-4054-9E6C-10F64009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DB88-59A3-4AAD-9084-3845F887C6C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:\Documents and Settings\Administrator\Local Settings\Temporary Internet Files\Content.IE5\2QEQ1ZX6\MCj04382510000[1].wmf"/>
          <p:cNvPicPr/>
          <p:nvPr/>
        </p:nvPicPr>
        <p:blipFill>
          <a:blip r:embed="rId2"/>
          <a:stretch/>
        </p:blipFill>
        <p:spPr>
          <a:xfrm>
            <a:off x="1554120" y="1295280"/>
            <a:ext cx="5859360" cy="3886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ester"/>
              </a:rPr>
              <a:t>What Goes Up Must Come Dow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3124080"/>
            <a:ext cx="73915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A 2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Jester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 Century Learning Experience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b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Teresa Cannady, Kay Jones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Gladys Jones, Brenna Takat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Request for Feedback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67816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ed ways to help students write a script for their video produc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ed help assessing students’ higher order thinking skill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371600" y="746280"/>
            <a:ext cx="6705720" cy="5203800"/>
          </a:xfrm>
          <a:prstGeom prst="rect">
            <a:avLst/>
          </a:prstGeom>
          <a:ln w="0">
            <a:noFill/>
          </a:ln>
        </p:spPr>
      </p:pic>
      <p:pic>
        <p:nvPicPr>
          <p:cNvPr id="71" name="MSSN00435A0000[1]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18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Jester"/>
              </a:rPr>
              <a:t>Weather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Jester"/>
              </a:rPr>
              <a:t>Unit Summary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228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Using prior knowledge of weather students will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articipate in a weather web quest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ngage in  interactive notebook activit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reate a story and post it on a blog or wik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sign a weather instrument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reate a student  video production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Jester"/>
              </a:rPr>
              <a:t>Curriculum-Framing Question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6840" y="10663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Jester"/>
              </a:rPr>
              <a:t>Essential Questio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y is change necessary?    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                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Jester"/>
              </a:rPr>
              <a:t>Unit Question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the water cycle and weather related?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es weather affect our everyday life?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Jester"/>
              </a:rPr>
              <a:t>Content Question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are the different types of precipitation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scribe the water cycl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ow are weather instruments used to measure and record weather data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y do we have storms and how are they created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are the different types of clouds and are they associated with the type of weather we hav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What Goes Up Must Come Dow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Weather Video Produc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09120" y="22096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production will help students develop 2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century skills 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rough the use of digital technology students will communicate their understanding  of weather by collaborating with their peers and producing a weather video. This will also enhance their creative writing and communication skil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2" descr="C:\Documents and Settings\Administrator\Local Settings\Temporary Internet Files\Content.IE5\7QDTM1KA\MCj04315970000[1].png"/>
          <p:cNvPicPr/>
          <p:nvPr/>
        </p:nvPicPr>
        <p:blipFill>
          <a:blip r:embed="rId2"/>
          <a:stretch/>
        </p:blipFill>
        <p:spPr>
          <a:xfrm>
            <a:off x="7620120" y="4572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C:\Program Files\Microsoft Office\MEDIA\CAGCAT10\j0293828.wmf"/>
          <p:cNvPicPr/>
          <p:nvPr/>
        </p:nvPicPr>
        <p:blipFill>
          <a:blip r:embed="rId2"/>
          <a:stretch/>
        </p:blipFill>
        <p:spPr>
          <a:xfrm>
            <a:off x="380880" y="152280"/>
            <a:ext cx="1447920" cy="15224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Gauging Student Needs Assessment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52280" y="15238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Purpose of the Assessmen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To gather information about what students already know, what they want to know and what they learned about weath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What I want to Learn from my students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I want to find out what they already know about how the water cycle and weather are related and how weather affects our everyday liv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Gauging Student Needs Assessment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con’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How I have tried to promote higher order thinking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I want to know if students can synthesize  the stages of the water cycle and  analyze its effect on weather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How the assessment information helps me and my students plan for upcoming  activities in the uni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We will revisit this assessment throughout the unit for students to add their knowledg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Our  Goals for the Cours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nd ways to get students to apply their knowledge of weather in their everyday li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arn about the different kinds of technology  availab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hare ideas with other teach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Student Goa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73915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arn how meteorologists collect and apply their data to predict weath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become more independent learn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6:23:23Z</dcterms:created>
  <dc:creator> </dc:creator>
  <dc:description/>
  <dc:language>en-US</dc:language>
  <cp:lastModifiedBy>pcs</cp:lastModifiedBy>
  <dcterms:modified xsi:type="dcterms:W3CDTF">2009-05-29T17:41:02Z</dcterms:modified>
  <cp:revision>35</cp:revision>
  <dc:subject/>
  <dc:title>What Goes Up Must Come Down</dc:title>
</cp:coreProperties>
</file>